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3F97-61FB-42DD-9DB6-91B21DF86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FF89-0795-4598-BFCD-C809810E2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579D-83FF-4118-BB6D-BA0C53B6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AB0D-0A8B-4CAC-A0E8-373BADE1A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305C-CFB9-47DF-8092-047796D4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67C2-476F-4BD4-8021-FE4C96E67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9877-A995-4B6A-8BD2-7E151781C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ED42-2213-4D9D-A6F4-225319A3A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6720-C7E8-485C-BC56-B91DE0A27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D219-0BAB-4CBA-B5E9-392295A8C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B257-C118-46E4-BA91-88F416B38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3C8B-7EA8-4B48-A8B1-C20DD5C44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099C-9710-4729-B6B7-F5866710C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9E6C-27E8-4D72-AF09-C053A0782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75A4-A5CC-46F1-B789-5A29C3452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0B05-E08F-4B05-8B44-8E30350AF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5F2E-ECAA-49F7-9674-2550B1839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EDB0-3A1A-4FD2-BC74-9400C6E3B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E975-7D8D-473D-A1A8-979832406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1312-06D4-4A9D-A339-ACC36E122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F66E-601A-4AF2-B637-4678E35E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1C7A-21A4-4D9B-83EE-DBEF7103E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A48B-AEE9-4615-8F68-71A5D177A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14C8-8870-470A-8E5A-3FEF21F9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87ED-59DE-4C0C-8BCE-69BEAC668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32D-9E4E-46F4-BF42-E0061491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BF4-83E3-46D2-91D7-68D566E3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9A9-FDC6-4D0C-A32D-CEC9E786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834-5058-4CD4-BED7-BDB3FE79F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1A03-DF97-43B1-A259-1F40D51B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18FC-1AFD-4C5D-B347-89A104A3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85D6-83A3-42F5-80C6-3E1760E68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A713-9BD4-48A3-9911-DD08B552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A5DD-1EE8-4B9A-AEC0-1C9572C0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227E-F7E5-47CD-B1AF-C0A531E0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5A35-E63E-4E02-AEDC-25756FEF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EEC2-8163-453F-AFC5-DABA3F3F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8F69-7164-46BA-9ED0-F57FF5E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D298-2413-4F59-80B9-67F8624A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2F7C-44D8-4A01-B744-C26FB2E0D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4E56-274C-4039-8833-0BEDEB94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B75B-561A-43DE-A635-F62EEA66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C52B6-B949-439D-93DB-888303DE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98A58-760A-49D4-B522-DCC9A859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714E1-3590-43AC-9FF6-0BAE6FC2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5A510-F590-4D2D-BA38-7380C261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4C72-5131-4247-9850-570368AB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F98-825A-4072-81FE-5A214EA4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517F-4FD6-4A82-9C22-F087C37A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DFE5-B016-4DED-82EA-C90B6720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6C64-D0AC-4BE9-A34F-6CD22173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7E18-7812-44E5-B85A-608893F1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95C8-F1F7-4329-AF63-945D0E8B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C54A-DB6B-4812-8916-FBBD7778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0EB37-2D7F-418D-9DB1-EB653995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680-CD4B-460A-B4E2-D74B5B15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2730-7EBA-41EE-8D2D-CCC001B2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F059-9DF8-45B7-AE0E-9A0E3771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08FB-1EB8-4282-9974-7DAAC6A3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C4D0-0A53-4318-B485-2EC6B864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8C1-28CD-4257-8ABE-9624BAB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9AD5-65DA-4C9A-98F5-AAE2A48CCD5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DFA9-8935-43AE-9D44-F17A736AE3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32981-446D-4EB4-A208-9FD57821CE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s 1 -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Issues in Environmental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ystem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699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boseli National Park (case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hat happened and whose fault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s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1680" y="151920"/>
            <a:ext cx="854064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 respons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ega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ost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n increase in s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will lead to an eventu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that output - stabiliz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si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more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oblem intensif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ich feedback system will domina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+ Positiv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-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Changes and Equilib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eple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larg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168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row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small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s on harves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eady 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=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le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ural and Human Impacts 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natural disturbances tend to be in balance and life has often co-evolved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importa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ays in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to change not always immed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non-linear, effects not seen for a wh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seen, may be difficult to 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 activity is beginning to affect environment global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growth = underlying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ustainable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ence Ti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8423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Pollu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flow through (short A.R.T.) affects system quickly but recovers quickly if problem remed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1320" y="457200"/>
            <a:ext cx="731844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flow through (long A.R.T.) takes a longer time to show effects but longer to recover even after problem remed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775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fects everything el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in one part of system has multiple effects in that system and other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s happening in the present were also happening in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itude and frequency of events may vary over time, but the processes are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th and all  living things are part of a sing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greatly affects the system and regulates the planetary environment to help sustai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1680" y="12193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tar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cological jus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esth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autionary Pri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is a global threat of serious or maybe irreversible environmental damag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not wait till all the scientific evidence is in before taking steps to prevent the potential problem from occ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Coral Reef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reatens Th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Knowledge is Critic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cience i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785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29:50Z</dcterms:created>
  <dc:creator>tosborne</dc:creator>
  <dc:description/>
  <dc:language>en-US</dc:language>
  <cp:lastModifiedBy>Teri Osborne</cp:lastModifiedBy>
  <dcterms:modified xsi:type="dcterms:W3CDTF">2011-09-04T18:33:06Z</dcterms:modified>
  <cp:revision>22</cp:revision>
  <dc:subject/>
  <dc:title>Basic Issues in Environmental Science</dc:title>
</cp:coreProperties>
</file>